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3.wmf" ContentType="image/x-wmf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AE1-C970-43DD-8F67-5D67D2A8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CF8-8CC1-4DD3-BF09-B209FC0F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F48-39F2-4613-B13E-6865D4D4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01A-64F7-410E-ADE4-955AF0A8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992E8-90DB-4076-8880-B49804EC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F72C2-3833-4029-A3C2-4FF670B7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D61DE-9BAD-4623-8A30-ADDB8FF0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D357E-CA66-4461-BC5C-9096ED3B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504F6-7F48-461D-B475-5C272900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73CB9-0736-46C1-90DB-A8F919D7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C9FC0-2345-40A5-A170-E0E480CF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2F5-E022-40FB-80FB-AF2E977E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4CEE1-CB37-491A-A4A1-64D1397D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4A6DE-D0AD-4A5B-B941-AFBD1F6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4C164-5596-4F2B-9895-1D4D100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2DA3C-F0D3-4AEE-8BF2-E1F7726E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78EBD-0EB9-4C80-8902-359C752C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8AB-62C1-491B-9DCC-BCAEC414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EC7-5728-4E65-BE09-35F97296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D3B-C99E-4D5E-9473-0702F6DC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3CB-C566-4AE3-B06F-94F195B2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89C-6837-4610-A45E-C3F55197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316-8642-4C0B-A9E4-98377A8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135-E2D4-4EA5-9CFE-8C7ADD54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D1EB-50AB-4042-8986-002D465F97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21BB-BA72-40F9-8EF4-EB1D275A94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Walk in the Desert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Vocabulary and Amazing Word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d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ape formed on land like hills, mountains, lakes, and des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43450000[1]"/>
          <p:cNvPicPr/>
          <p:nvPr/>
        </p:nvPicPr>
        <p:blipFill>
          <a:blip r:embed="rId1"/>
          <a:stretch/>
        </p:blipFill>
        <p:spPr>
          <a:xfrm>
            <a:off x="6324480" y="2895480"/>
            <a:ext cx="1841760" cy="12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MPj04340860000[1]"/>
          <p:cNvPicPr/>
          <p:nvPr/>
        </p:nvPicPr>
        <p:blipFill>
          <a:blip r:embed="rId2"/>
          <a:stretch/>
        </p:blipFill>
        <p:spPr>
          <a:xfrm>
            <a:off x="533520" y="2743200"/>
            <a:ext cx="2514600" cy="251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Blue hills"/>
          <p:cNvPicPr/>
          <p:nvPr/>
        </p:nvPicPr>
        <p:blipFill>
          <a:blip r:embed="rId3"/>
          <a:stretch/>
        </p:blipFill>
        <p:spPr>
          <a:xfrm>
            <a:off x="3505320" y="32004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kind of rain, snow, hail, or other form of water that comes down from the clouds to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MCj02788500000[1]"/>
          <p:cNvPicPr/>
          <p:nvPr/>
        </p:nvPicPr>
        <p:blipFill>
          <a:blip r:embed="rId1"/>
          <a:stretch/>
        </p:blipFill>
        <p:spPr>
          <a:xfrm>
            <a:off x="4114800" y="3098880"/>
            <a:ext cx="3124080" cy="22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u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ll of sand in a des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MPj04243850000[1]"/>
          <p:cNvPicPr/>
          <p:nvPr/>
        </p:nvPicPr>
        <p:blipFill>
          <a:blip r:embed="rId1"/>
          <a:stretch/>
        </p:blipFill>
        <p:spPr>
          <a:xfrm>
            <a:off x="3352680" y="2666880"/>
            <a:ext cx="35816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lf or an overl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MCBD09077_0000[1]"/>
          <p:cNvPicPr/>
          <p:nvPr/>
        </p:nvPicPr>
        <p:blipFill>
          <a:blip r:embed="rId1"/>
          <a:stretch/>
        </p:blipFill>
        <p:spPr>
          <a:xfrm>
            <a:off x="3276720" y="2514600"/>
            <a:ext cx="437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v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fe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ove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someone finds out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MMj02867660000[1]"/>
          <p:cNvPicPr/>
          <p:nvPr/>
        </p:nvPicPr>
        <p:blipFill>
          <a:blip r:embed="rId1"/>
          <a:stretch/>
        </p:blipFill>
        <p:spPr>
          <a:xfrm>
            <a:off x="3429000" y="2666880"/>
            <a:ext cx="2305080" cy="22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bid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s dangerous and sc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Cj03315770000[1]"/>
          <p:cNvPicPr/>
          <p:nvPr/>
        </p:nvPicPr>
        <p:blipFill>
          <a:blip r:embed="rId1"/>
          <a:stretch/>
        </p:blipFill>
        <p:spPr>
          <a:xfrm>
            <a:off x="3691080" y="2530440"/>
            <a:ext cx="2100240" cy="29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ce without water or trees but with a lot of s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MPj04243860000[1]"/>
          <p:cNvPicPr/>
          <p:nvPr/>
        </p:nvPicPr>
        <p:blipFill>
          <a:blip r:embed="rId1"/>
          <a:stretch/>
        </p:blipFill>
        <p:spPr>
          <a:xfrm>
            <a:off x="4724280" y="2590920"/>
            <a:ext cx="27957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rough, unpleasant, and unfrien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MCj02379220000[1]"/>
          <p:cNvPicPr/>
          <p:nvPr/>
        </p:nvPicPr>
        <p:blipFill>
          <a:blip r:embed="rId1"/>
          <a:stretch/>
        </p:blipFill>
        <p:spPr>
          <a:xfrm>
            <a:off x="2666880" y="2362320"/>
            <a:ext cx="3554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d of weather a place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MCj03351920000[1]"/>
          <p:cNvPicPr/>
          <p:nvPr/>
        </p:nvPicPr>
        <p:blipFill>
          <a:blip r:embed="rId1"/>
          <a:stretch/>
        </p:blipFill>
        <p:spPr>
          <a:xfrm>
            <a:off x="2514600" y="2362320"/>
            <a:ext cx="42512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t with sharp parts but no leaves; most live in very hot, dry areas of North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Cj04136040000[1]"/>
          <p:cNvPicPr/>
          <p:nvPr/>
        </p:nvPicPr>
        <p:blipFill>
          <a:blip r:embed="rId1"/>
          <a:stretch/>
        </p:blipFill>
        <p:spPr>
          <a:xfrm>
            <a:off x="4800600" y="3200400"/>
            <a:ext cx="2819520" cy="277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Pj04224930000[1]"/>
          <p:cNvPicPr/>
          <p:nvPr/>
        </p:nvPicPr>
        <p:blipFill>
          <a:blip r:embed="rId2"/>
          <a:stretch/>
        </p:blipFill>
        <p:spPr>
          <a:xfrm>
            <a:off x="1600200" y="3200400"/>
            <a:ext cx="177948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animal that looks something like a wo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Cj0332306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2886120" cy="31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nd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u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d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bid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very, very d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MPj04022580000[1]"/>
          <p:cNvPicPr/>
          <p:nvPr/>
        </p:nvPicPr>
        <p:blipFill>
          <a:blip r:embed="rId1"/>
          <a:stretch/>
        </p:blipFill>
        <p:spPr>
          <a:xfrm>
            <a:off x="2666880" y="22860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56:54Z</dcterms:created>
  <dc:creator> </dc:creator>
  <dc:description/>
  <dc:language>en-US</dc:language>
  <cp:lastModifiedBy>Laura McDow</cp:lastModifiedBy>
  <dcterms:modified xsi:type="dcterms:W3CDTF">2010-09-02T15:33:22Z</dcterms:modified>
  <cp:revision>3</cp:revision>
  <dc:subject/>
  <dc:title>A Walk in the Desert Vocabulary and Amazing Words</dc:title>
</cp:coreProperties>
</file>